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9031D-E37F-41FE-9A2D-C5387C10EF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autotrophs=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there are two chlorophylls so plant absorbs more colors/light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en to just Chlorophylls a &amp; b, carotenoids, and xanthophy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6182-175C-4E78-B3D8-D513B2F87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357B-4EB2-4C95-AD37-782B46A47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6789-FB1A-4896-B33B-7091ED82A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2167-7D90-4ACC-879F-2970932F1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C32D3-03B6-4A55-85FF-DCF3FF603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7FEC7-0861-4394-8C2C-023A8F897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9D2CF-148E-48A2-9DDC-346E4864C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53E68-8D2F-4569-8741-5C13B2671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C5F74-71D1-4DED-BBD7-71890DB01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693BC-C124-4E78-B395-A374296FC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2676D-287C-4CD0-8810-AA180FAB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2574-2A29-4320-999D-F05AFDD7C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A8D70-91FB-41A6-A414-0135ADBD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B25F2-FA63-40DD-86A8-8300ED69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DE424-CA81-4C08-B3D4-EF2AC0548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7DD1B-5915-49C0-8ECD-9CF894445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FBC85-3437-40A2-93E2-DFA3E4BE9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794F-97EC-4E6A-A092-2715203CD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77C5-7A82-420C-A6F1-97AA517CF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D99E-AFDE-4590-A6E7-6FE2DFB09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CE41-99F9-40D7-9016-DA7C10955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FF35-AEF8-4725-A6F3-B90473D6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2342-40A4-4BCD-84D4-9D14A705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D908-D30A-40F1-B141-6D6515BA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A2C8-FCE1-4F1E-BBF9-CB89BC2A4C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30925-E3E8-4D30-AC31-519E5D74EF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D/%5CMedia%5CPowerPoint_Figures%5Cchapter6%5Canimations%5Cch06_bp.html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D/%5CMedia%5CPowerPoint_Figures%5Cchapter6%5Canimations%5Clight_wavelength.html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Arial Black"/>
              </a:rPr>
              <a:t>Photosynthesis I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ergy, Light and pig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hlorophyll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n pigments in most pl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286000" y="2743200"/>
            <a:ext cx="4570560" cy="29322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 rot="16200000">
            <a:off x="852480" y="3900600"/>
            <a:ext cx="247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avelength absorption (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7920" y="5788080"/>
            <a:ext cx="265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avelength (nanometer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78360" y="4632480"/>
            <a:ext cx="168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chlorophyll </a:t>
            </a:r>
            <a:r>
              <a:rPr b="1" i="1" lang="en-US" sz="1600" spc="-1" strike="noStrike">
                <a:solidFill>
                  <a:srgbClr val="0066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068720" y="3882960"/>
            <a:ext cx="157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chlorophyll </a:t>
            </a:r>
            <a:r>
              <a:rPr b="1" i="1" lang="en-US" sz="1600" spc="-1" strike="noStrike">
                <a:solidFill>
                  <a:srgbClr val="0066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5606640" y="407664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816000" y="4813200"/>
            <a:ext cx="190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arotenoid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nd in all photoautotrop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sorb blue-violet and blue-green that chlorophylls mi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lect red, yellow, orange waveleng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ty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otenes - pur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drocarb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anthophylls - conta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xy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792680" y="4110120"/>
            <a:ext cx="366552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Xanthophyll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llow, brown, purple, or blue accessory pig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hycobilins &amp; Anthocyanins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 to purple pig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ycobil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nd in red algae and cyanobac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hocyan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 many flowers their col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otoautotrophs (Plants, some bacteria &amp; many protis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pture sunlight energy and use it to carry out photosynthe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bon source is carbon diox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ergy source is sunligh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terotrophs (as in 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 carbon and energy by eating autotrophs or one anot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arbon and Energy Sourc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hotosynthesis Equa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523880"/>
            <a:ext cx="9144000" cy="25527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666880" y="3581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Where does the oxygen gas come fro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2476440"/>
            <a:ext cx="304560" cy="343080"/>
          </a:xfrm>
          <a:prstGeom prst="rect">
            <a:avLst/>
          </a:prstGeom>
          <a:solidFill>
            <a:srgbClr val="ff6699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476440"/>
            <a:ext cx="228600" cy="343080"/>
          </a:xfrm>
          <a:prstGeom prst="rect">
            <a:avLst/>
          </a:prstGeom>
          <a:solidFill>
            <a:srgbClr val="ff6699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715000" y="2476440"/>
            <a:ext cx="304920" cy="266760"/>
          </a:xfrm>
          <a:prstGeom prst="rect">
            <a:avLst/>
          </a:prstGeom>
          <a:solidFill>
            <a:srgbClr val="ff6699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629400" y="2476440"/>
            <a:ext cx="152280" cy="266760"/>
          </a:xfrm>
          <a:prstGeom prst="rect">
            <a:avLst/>
          </a:prstGeom>
          <a:solidFill>
            <a:srgbClr val="ff6699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610480" y="2476440"/>
            <a:ext cx="228600" cy="266760"/>
          </a:xfrm>
          <a:prstGeom prst="rect">
            <a:avLst/>
          </a:prstGeom>
          <a:solidFill>
            <a:srgbClr val="ff6699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086600" y="2438280"/>
            <a:ext cx="304920" cy="381240"/>
          </a:xfrm>
          <a:prstGeom prst="rect">
            <a:avLst/>
          </a:prstGeom>
          <a:solidFill>
            <a:srgbClr val="ff6699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0120" y="2476440"/>
            <a:ext cx="228600" cy="266760"/>
          </a:xfrm>
          <a:prstGeom prst="rect">
            <a:avLst/>
          </a:prstGeom>
          <a:solidFill>
            <a:srgbClr val="ff6699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3000" y="441972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plify the equation by dividing by 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n-US" sz="2800" spc="-1" strike="noStrike">
                <a:solidFill>
                  <a:srgbClr val="ff4fd3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+   2 H</a:t>
            </a:r>
            <a:r>
              <a:rPr b="1" lang="en-US" sz="2800" spc="-1" strike="noStrike">
                <a:solidFill>
                  <a:srgbClr val="ff4fd3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1116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CH</a:t>
            </a:r>
            <a:r>
              <a:rPr b="1" lang="en-US" sz="2800" spc="-1" strike="noStrike">
                <a:solidFill>
                  <a:srgbClr val="ff4fd3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  +  H</a:t>
            </a:r>
            <a:r>
              <a:rPr b="1" lang="en-US" sz="2800" spc="-1" strike="noStrike">
                <a:solidFill>
                  <a:srgbClr val="ff4fd3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  +  </a:t>
            </a:r>
            <a:r>
              <a:rPr b="0" lang="en-US" sz="2800" spc="-1" strike="noStrike">
                <a:solidFill>
                  <a:srgbClr val="ff1116"/>
                </a:solidFill>
                <a:latin typeface="Arial"/>
              </a:rPr>
              <a:t>O</a:t>
            </a:r>
            <a:r>
              <a:rPr b="1" lang="en-US" sz="2800" spc="-1" strike="noStrike">
                <a:solidFill>
                  <a:srgbClr val="ff4fd3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306800" y="5334120"/>
            <a:ext cx="5871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f1116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ff4fd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+   2 H</a:t>
            </a:r>
            <a:r>
              <a:rPr b="1" lang="en-US" sz="2800" spc="-1" strike="noStrike" baseline="-25000">
                <a:solidFill>
                  <a:srgbClr val="ff4fd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CH</a:t>
            </a:r>
            <a:r>
              <a:rPr b="1" lang="en-US" sz="2800" spc="-1" strike="noStrike" baseline="-25000">
                <a:solidFill>
                  <a:srgbClr val="ff4fd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1116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+  H</a:t>
            </a:r>
            <a:r>
              <a:rPr b="1" lang="en-US" sz="2800" spc="-1" strike="noStrike" baseline="-25000">
                <a:solidFill>
                  <a:srgbClr val="ff4fd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1116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+  O</a:t>
            </a:r>
            <a:r>
              <a:rPr b="1" lang="en-US" sz="2800" spc="-1" strike="noStrike" baseline="-25000">
                <a:solidFill>
                  <a:srgbClr val="ff4fd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300552" presetSubtype="8102492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does the chemistry look like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11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 CO</a:t>
            </a:r>
            <a:r>
              <a:rPr b="1" lang="en-US" sz="2800" spc="-1" strike="noStrike" baseline="-25000">
                <a:solidFill>
                  <a:srgbClr val="ff4fd3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+  12 H</a:t>
            </a:r>
            <a:r>
              <a:rPr b="1" lang="en-US" sz="2800" spc="-1" strike="noStrike" baseline="-25000">
                <a:solidFill>
                  <a:srgbClr val="ff4fd3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C</a:t>
            </a:r>
            <a:r>
              <a:rPr b="1" lang="en-US" sz="2800" spc="-1" strike="noStrike" baseline="-25000">
                <a:solidFill>
                  <a:srgbClr val="ff4fd3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ff4fd3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ff4fd3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+  6 O</a:t>
            </a:r>
            <a:r>
              <a:rPr b="1" lang="en-US" sz="2800" spc="-1" strike="noStrike" baseline="-25000">
                <a:solidFill>
                  <a:srgbClr val="ff4fd3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+   6 H</a:t>
            </a:r>
            <a:r>
              <a:rPr b="1" lang="en-US" sz="2800" spc="-1" strike="noStrike" baseline="-25000">
                <a:solidFill>
                  <a:srgbClr val="ff4fd3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does the oxygen gas come fro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3505320"/>
            <a:ext cx="6170400" cy="19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plify the equation by dividing by 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</a:t>
            </a:r>
            <a:r>
              <a:rPr b="1" lang="en-US" sz="2800" spc="-1" strike="noStrike" baseline="-25000">
                <a:solidFill>
                  <a:srgbClr val="ff4fd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+   2 H</a:t>
            </a:r>
            <a:r>
              <a:rPr b="1" lang="en-US" sz="2800" spc="-1" strike="noStrike" baseline="-25000">
                <a:solidFill>
                  <a:srgbClr val="ff4fd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1116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CH</a:t>
            </a:r>
            <a:r>
              <a:rPr b="1" lang="en-US" sz="2800" spc="-1" strike="noStrike" baseline="-25000">
                <a:solidFill>
                  <a:srgbClr val="ff4fd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  +  H</a:t>
            </a:r>
            <a:r>
              <a:rPr b="1" lang="en-US" sz="2800" spc="-1" strike="noStrike" baseline="-25000">
                <a:solidFill>
                  <a:srgbClr val="ff4fd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  +  </a:t>
            </a:r>
            <a:r>
              <a:rPr b="0" lang="en-US" sz="2800" spc="-1" strike="noStrike">
                <a:solidFill>
                  <a:srgbClr val="ff1116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ff4fd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443600" y="5135400"/>
            <a:ext cx="5871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f1116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ff4fd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+   2 H</a:t>
            </a:r>
            <a:r>
              <a:rPr b="1" lang="en-US" sz="2800" spc="-1" strike="noStrike" baseline="-25000">
                <a:solidFill>
                  <a:srgbClr val="ff4fd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CH</a:t>
            </a:r>
            <a:r>
              <a:rPr b="1" lang="en-US" sz="2800" spc="-1" strike="noStrike" baseline="-25000">
                <a:solidFill>
                  <a:srgbClr val="ff4fd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1116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+  H</a:t>
            </a:r>
            <a:r>
              <a:rPr b="1" lang="en-US" sz="2800" spc="-1" strike="noStrike" baseline="-25000">
                <a:solidFill>
                  <a:srgbClr val="ff4fd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1116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+  O</a:t>
            </a:r>
            <a:r>
              <a:rPr b="1" lang="en-US" sz="2800" spc="-1" strike="noStrike" baseline="-25000">
                <a:solidFill>
                  <a:srgbClr val="ff4fd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300552" presetSubtype="8102492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300552" presetSubtype="8102492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basic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en plants capture energy from the s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turn 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carbon dioxide) into plant sug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oxygen) is released in the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process is the basis of nearly all food webs on the plane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xception: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A few types of bacteria can oxidize minerals and make simple suga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324480" y="2286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7301"/>
                </a:moveTo>
                <a:lnTo>
                  <a:pt x="11185" y="7301"/>
                </a:lnTo>
                <a:lnTo>
                  <a:pt x="11568" y="7667"/>
                </a:lnTo>
                <a:lnTo>
                  <a:pt x="20777" y="7667"/>
                </a:lnTo>
                <a:lnTo>
                  <a:pt x="21334" y="8224"/>
                </a:lnTo>
                <a:lnTo>
                  <a:pt x="21334" y="8772"/>
                </a:lnTo>
                <a:lnTo>
                  <a:pt x="23179" y="8772"/>
                </a:lnTo>
                <a:lnTo>
                  <a:pt x="23545" y="8224"/>
                </a:lnTo>
                <a:lnTo>
                  <a:pt x="24284" y="8224"/>
                </a:lnTo>
                <a:lnTo>
                  <a:pt x="24284" y="13376"/>
                </a:lnTo>
                <a:lnTo>
                  <a:pt x="23545" y="13376"/>
                </a:lnTo>
                <a:lnTo>
                  <a:pt x="23179" y="12828"/>
                </a:lnTo>
                <a:lnTo>
                  <a:pt x="21334" y="12828"/>
                </a:lnTo>
                <a:lnTo>
                  <a:pt x="21334" y="14107"/>
                </a:lnTo>
                <a:lnTo>
                  <a:pt x="11751" y="14107"/>
                </a:lnTo>
                <a:lnTo>
                  <a:pt x="11751" y="9877"/>
                </a:lnTo>
                <a:lnTo>
                  <a:pt x="11568" y="9877"/>
                </a:lnTo>
                <a:lnTo>
                  <a:pt x="11185" y="10243"/>
                </a:lnTo>
                <a:lnTo>
                  <a:pt x="10271" y="10243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Click to view 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Times New Roman"/>
                <a:hlinkClick r:id="rId1"/>
              </a:rPr>
              <a:t>video</a:t>
            </a:r>
            <a:r>
              <a:rPr b="0" lang="en-US" sz="1800" spc="-1" strike="noStrike" u="sng">
                <a:solidFill>
                  <a:srgbClr val="008000"/>
                </a:solidFill>
                <a:uFillTx/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y animation he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unlight as an Energy Sour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tosynthesis runs on a fraction of the electromagnetic spectrum, or the full range of energy radiating from the s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omagnetic Spectrum 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es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mma r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velength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-r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V radi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sible l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rared radi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wa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nge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dio wa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veleng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00200" y="3124080"/>
            <a:ext cx="0" cy="2057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15200" y="266688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7301"/>
                </a:moveTo>
                <a:lnTo>
                  <a:pt x="11185" y="7301"/>
                </a:lnTo>
                <a:lnTo>
                  <a:pt x="11568" y="7667"/>
                </a:lnTo>
                <a:lnTo>
                  <a:pt x="20777" y="7667"/>
                </a:lnTo>
                <a:lnTo>
                  <a:pt x="21334" y="8224"/>
                </a:lnTo>
                <a:lnTo>
                  <a:pt x="21334" y="8772"/>
                </a:lnTo>
                <a:lnTo>
                  <a:pt x="23179" y="8772"/>
                </a:lnTo>
                <a:lnTo>
                  <a:pt x="23545" y="8224"/>
                </a:lnTo>
                <a:lnTo>
                  <a:pt x="24284" y="8224"/>
                </a:lnTo>
                <a:lnTo>
                  <a:pt x="24284" y="13376"/>
                </a:lnTo>
                <a:lnTo>
                  <a:pt x="23545" y="13376"/>
                </a:lnTo>
                <a:lnTo>
                  <a:pt x="23179" y="12828"/>
                </a:lnTo>
                <a:lnTo>
                  <a:pt x="21334" y="12828"/>
                </a:lnTo>
                <a:lnTo>
                  <a:pt x="21334" y="14107"/>
                </a:lnTo>
                <a:lnTo>
                  <a:pt x="11751" y="14107"/>
                </a:lnTo>
                <a:lnTo>
                  <a:pt x="11751" y="9877"/>
                </a:lnTo>
                <a:lnTo>
                  <a:pt x="11568" y="9877"/>
                </a:lnTo>
                <a:lnTo>
                  <a:pt x="11185" y="10243"/>
                </a:lnTo>
                <a:lnTo>
                  <a:pt x="10271" y="10243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Times New Roman"/>
                <a:hlinkClick r:id="rId1"/>
              </a:rPr>
              <a:t>Click</a:t>
            </a:r>
            <a:r>
              <a:rPr b="0" lang="en-US" sz="1800" spc="-1" strike="noStrike" u="sng">
                <a:solidFill>
                  <a:srgbClr val="008000"/>
                </a:solidFill>
                <a:uFillTx/>
                <a:latin typeface="Times New Roman"/>
              </a:rPr>
              <a:t> to view vide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Visible Light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velengths humans perceive as different col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olet (380 nm)  to red (750 nm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nger wavelengths, lower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46000" y="4419720"/>
            <a:ext cx="7452000" cy="13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hoton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ckets of light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type of photon has fixed amount of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tons having most energy travel as shortest wavelength (blue-green ligh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649680" y="3692520"/>
            <a:ext cx="4579920" cy="19461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igme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67000" y="1904760"/>
            <a:ext cx="6750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ght-absorbing molec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sorb some wavelengths and transmit 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or you see are the wavelength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bsorb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5790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-catching part of molecule often has alternating single and double bo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bonds contain electrons that are capable of being moved to higher energy levels by absorbing l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igment Structu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928800"/>
            <a:ext cx="2797200" cy="5472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Variety of Pigments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lorophyll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otenoi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anthophy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ycobil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hocyan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54:57Z</dcterms:created>
  <dc:creator>Christine Evers</dc:creator>
  <dc:description/>
  <dc:language>en-US</dc:language>
  <cp:lastModifiedBy>Marie Scearce, Ph.D.</cp:lastModifiedBy>
  <dcterms:modified xsi:type="dcterms:W3CDTF">2007-05-19T23:59:06Z</dcterms:modified>
  <cp:revision>139</cp:revision>
  <dc:subject/>
  <dc:title>You Light Up My Life</dc:title>
</cp:coreProperties>
</file>